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AA2-DDF5-48EC-887F-C43DB110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8AA-4ECE-4775-B9EC-7BFDC7C5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C70-0939-4CE8-93B1-DB4C028A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9B0-EC0A-4F40-9498-52D60CA5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514-C2A1-4D8F-B73D-C802D64D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E8D-E44A-486B-AD2F-84CF7A55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490-6AF1-4862-BF3C-7C89A7D0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ECB-4926-4E5D-BF81-7168159C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C53-5D01-4B5C-A79D-27081C01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32A-5B05-4428-850F-F4BB5FF8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658-03F7-4172-A12A-17E7905F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AB6-8EC5-4E5D-907A-2213DB21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9E4D-1679-4368-9344-503D78B71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752480" y="1523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0" y="15238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Light of the world You stepped out into darkn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Opened my eyes let me se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Beauty that made this heart adore Yo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ope of a life spent with Yo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15238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King of all days, O so highly exal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Glorious in heaven abo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umbly You came to the earth You crea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l for loves sake became po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0" y="1523880"/>
            <a:ext cx="9144000" cy="73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23:26:42Z</dcterms:created>
  <dc:creator>Jim Graham</dc:creator>
  <dc:description/>
  <dc:language>en-US</dc:language>
  <cp:lastModifiedBy>Jim Graham</cp:lastModifiedBy>
  <dcterms:modified xsi:type="dcterms:W3CDTF">2007-08-25T23:30:13Z</dcterms:modified>
  <cp:revision>1</cp:revision>
  <dc:subject/>
  <dc:title>Slide 1</dc:title>
</cp:coreProperties>
</file>